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D4E-EA63-4F58-9A2F-20CC1048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628-D54C-4806-998A-5703FA30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568EA-F264-4A10-A0E8-204B60C0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0A159-8640-4823-B9A7-A32CFD7B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BD31B-1DCD-4D44-A524-97E239BA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EE112-E5A0-4E7A-AE15-FC742E26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67932-2682-4A69-A12F-14E249FD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F62C0-18A6-4426-ABA7-FCAB83B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38558-6624-47F9-990D-EE2E403F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D10FF-70AA-46B0-9297-A08EDE6F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8288A-B330-4E37-A493-87D598A2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FDEB6-8452-447C-9D4E-26730854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B13-9FBB-4CAA-B64A-718C797F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E4A2A-4D80-47E7-BA0B-9173D8E4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7D9F3-29A8-4003-A282-5FBDA451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2F4A5-C144-4018-B66B-988D0BF4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848B7-74CE-4EA6-AF37-0592AFB9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E28D0-A2E5-47F1-B576-AF30EC02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C8CFB-DD63-4079-B35C-094296DF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2624F-3FB5-4DA4-856A-8434A753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6DD89-509C-4058-8E4E-4FA40C93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AC240-3BCC-4D41-8D74-3590C01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17768-5712-496A-AD89-D66F93E0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DA3-A081-4BFC-B7F7-D4934501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A0D05-BE6D-4BD7-A336-63F898DE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3C9C5-D490-4D1E-A8D8-882DF4ED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E1371-218E-4C04-9389-3FC7FBBC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4969F-34DD-4875-B122-67A6716E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A6244-55F4-43DE-A360-AC2BC027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EB469-636F-4AC3-88A3-D4E5D0B4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1EB7C-C52D-4D68-8E0D-EFCA922C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8F31A-2AD1-4C8B-8AEC-F1A94367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77E94-B434-4BF4-8CBD-825BEF4B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E07CF-9AF0-4B42-A246-5B0AA8E6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223A-568D-4A31-8C52-388A664B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9FD95-F5C3-4A77-ADCD-F4107A99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01AAD-4495-4441-8E63-B04C04E9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1E36E-83FE-450C-9FAD-D3262D77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D8E2A-918E-42C2-B9DC-D8046FCB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A23AF-C5E3-464E-92E2-2EF1BAE8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193B6-86DA-40A6-B17E-7A29C25C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DBBE8-5DBC-4DE1-848B-9639D348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5ACC4-6281-43C5-B2F7-B6B0F471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422CD-CF5F-4A59-AD6A-4769B5A7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A28D2-65EC-418D-A4DD-AEAC4EB7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A550-5F81-4BA1-B1FA-5DB955DD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2CF26-0272-418F-A4B1-A83A21BE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EE724-DB71-4375-A27B-F9F06A64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C828F-1C7A-42D2-BE79-C5236EFE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0DCFA-304B-467F-B830-1AD79843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30A8D-ECA6-4643-A67E-A1F38721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41F2D-57F5-4EFF-87AF-6E8033F3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A2024-741C-432D-863C-2A56B0D3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86DA6-F91C-4D20-BE98-7DACC09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E1054-11C8-47FF-86DE-D156D9C2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D1097-67E8-49F9-8199-67BAA97D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D14A-4CA4-4DCE-A4C3-F23AE31A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6FF28-8156-4757-B6CD-9CAF61C8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96E94-83B7-46F2-AFDB-E3E061FA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BE764-DB1C-4D21-80CE-75C12E5B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A8ACD-6A94-41B4-969E-B3A95205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09ED9-FE55-4920-8EC9-A9430FFD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99742-1804-4B20-B74B-39BD4E97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21719-5108-46AD-A62E-DF241D0D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3F6AC-2447-4F15-9600-1E37F156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0E3F5-BAE6-43EA-BB19-48383DF1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059AF-5752-4653-8B1E-38599F34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0FE5-CDC4-468D-AFCC-2F9A0A14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8E348-BDEF-4109-8DB2-BA2DEAC3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D873E-58B8-4843-A294-6EDAA985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0E4066-AC66-4BE8-8704-1BBCDFCB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751AA-61A9-4AC6-938D-E7A5987C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2B06D-EA93-47FC-8320-23F3B5BD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34BFC-9E7C-47DC-A527-51F575F1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3DC46C-042F-4F4B-B3E7-2B38B2B4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4D09AA-CEFF-45D3-8AE4-CA08406E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5A6C7-1EA0-47E0-97C7-A29885DB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3223F-67C3-4EF7-82FE-B7C4D273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A1BD-22B8-40A6-B72E-8031822A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7989E-C749-4D15-9A1D-15BB0C33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57B8C-1C5A-43A0-A06E-D13D0CF4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A920B-E381-4447-ABF9-221B0E7F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38EE6-0C28-4E48-AA90-CEFD950A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030D8-5CD3-46A9-8BE0-B37A711B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3BA61-EE4F-4DE8-AE2F-9F6970F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6B57D-D79D-4645-88F1-A017256B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FF7CF-068A-4176-98C1-C66179F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0BC89-15AC-4997-A23B-35241EA6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4482E-7E9D-4CFF-A8E7-57290E50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E0C6-6010-47F7-BC66-2D0519C0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449806-0DB5-4DA5-AA9A-BD00239C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078737-DF0C-4E4B-9787-F40E18DC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65829-3E21-4A47-8A60-04CDEC0D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3695DD-EFBD-417C-9ABC-01C101D5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0257D-65A6-41B4-8DD8-3B853590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416A6-89B4-46F5-8ABE-2AD0E659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034603-99AA-4715-9DB9-9F154FEA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207EF-5413-4A67-8988-0FCA1ABC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35F80-344C-4D48-9EC5-1247F231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9D466-5023-4EFF-A56D-91EBCFA6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CCE8-F8A5-419E-A7DB-2417D333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BE8B9-DAD4-4EAA-A38A-ABB29922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050DF-D482-4441-AC46-B8405837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C2D8C-1BD0-4F26-B90E-6E792295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5AC9D-EC69-4A05-8B74-AE81E547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FA06E-AA55-4677-89CD-F30DEAA8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F49FE-C7CC-473D-A145-C270F00B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9059F-A993-44B3-A9CB-A784BE9B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2F902-85EA-4E4B-9538-B9B2056E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011D5-DADB-43CC-A66B-405852A8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CD9A1-1B92-4835-B012-C173D28E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0C6-F4FA-4B26-9FA3-50B4D7C5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1068-4458-452D-9506-4E794534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A97CD-A8A8-4392-939F-AE5095C6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20CC4-E8A9-4394-A0E3-943B1B53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A6C3D-570A-418C-81D0-65D4911C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AA626-2510-4D27-8DC5-DE7C8FBE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6C817-DA65-4D12-A9C1-470FE0A5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1D1A1D-118B-41D9-8F77-7D689B54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A8F29-10EE-4D37-AB00-F94EEDE3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35BC6-75F4-448A-9C7F-47342E10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9B68C-5596-4495-807C-60950438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52BBF-90F3-44C0-87CB-B5CE749E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D749-FC25-40A7-8D1D-CC0F736F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5D4D4-2AF2-4DA0-9960-14E97C8A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8C3AA7-C88F-46DD-BE08-F6C8BA5A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D3CA3-4F7A-438C-BE9E-B8832741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2BA4D-A8C3-40C6-B428-9B6856CE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804A7B-A30E-40A7-9F1C-B15A1046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4A7E6-35C1-4143-AD02-C351AC0B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18C07-2E5C-40A1-BD9A-39002D36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A6DF01-DB73-4EDA-B0C3-6730402B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123B2-0476-4F5A-8C31-A7DEBFBF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D68E0-2FB5-4DE5-BDA7-2719EFBA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DE07-B43F-49BA-A26B-2594B258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FFAD9-56B4-41BE-8128-214327E3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0DE588-BE82-4FF2-A447-C7CDFACA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F84103-A1CC-4ED2-A88B-FE8C7FC5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B4DB1-E4E0-40E2-9492-D2CA1C1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9F3D94-6784-409B-81BC-2B7C13D5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77019-07B5-4897-8DE5-47999D55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4E5FB-B752-4DEA-894B-591C243C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7E92B-D777-4C52-B299-BB9550BC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2DD045-D589-4B30-84DB-2DE145A0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F60FC8-2583-47D7-BCEF-0C7CC333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0310-7DBC-4BDD-B24F-BED96DCE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ECD98-CE58-427B-B79B-D43442EB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D747E-9FE6-4D33-9D9D-68029D77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CC1170-567D-4CA3-BBFD-D9BA22FA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DE26A-59A7-40EC-A802-0557C98F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CC97EE-5D97-4E5D-B7DF-5C97A05D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867680-38AA-4EE5-A9A4-7CE0C92E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B2EF21-67AB-4F68-A735-44AC46FC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DB865-181B-40B0-A518-016446F6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74AB06-D2EE-45C2-8270-7B7AA2A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B39DB-813D-4761-8C50-A2867D76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7D48-D1A5-43F7-B43D-3D02BF5B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5907E-F20A-4E24-ABBF-DBBCDDCE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698CE7-81DD-4117-9E63-14280F43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045BD-3D41-4F85-9C76-303271C8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67BF61-EC62-4419-AA88-527F74B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411C5-4B54-41A7-8EE8-2CA40B96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27EF36-432F-4225-896B-E1C1FA6A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8218A-23B2-40F2-9016-19C4F48C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1B49A-3EAC-48CD-9418-B5944793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92C3D6-278C-437D-BDB1-DAD3206B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1F7953-8BDB-4065-AA98-A7F6CD3F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87D1-E0F8-4C2F-8399-B34C898B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0B20A9-78D5-4D08-9BBD-8AE03269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9C758E-0379-4083-888E-77FE040C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D60C4-68BF-437E-8EC3-A0B092CA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89D29-7F2A-43C8-B907-EC7207E1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2633-96AB-4A01-B8C5-B2F39821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F8848-D935-43E3-81AA-6055ACB9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0CDD4-2CEA-4C42-9922-7F5A169A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676-AAF3-4334-9FDF-1E385CF5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D431B-13E3-482E-9315-1F11F021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8F87-481B-4DF0-BE4C-51817D3A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B57B-66B9-4922-853E-15AA95EE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A9B8-C0AC-4943-AEAB-CE4FC2F3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AA37B-F3C8-40F4-A091-78476733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2F6D-54AC-4FCF-98FB-236F382F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EBA6-1302-45BC-8B3E-A60A329B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3E2B8-40AE-4B86-ACBF-4ACA0FC4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BAF85-7D78-4B26-9CE8-90BB0D40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22AA-8F02-456F-850B-DBBF0771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25F-B2A0-4791-B282-2E3EAAD2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A857-DB33-4421-9BD0-B764B89C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D300A-FD54-46CF-AA8E-94E19B7E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E7B74-A54F-49D1-B822-7E3AC14B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B128-C8EB-4F20-A220-BB0D0B4A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A6F0-3FD6-4307-AAB3-5E4D1607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4B46-B388-427E-AF69-93ED50C5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BB48B-6E4D-4654-9DB1-9C3CBF7A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DD28-96DB-4879-9881-F156CAFC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5BB9-1AF6-4ADB-B113-EFF3A6BF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BC252-2AD7-46DD-B65E-B0F93CB3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912-D62B-4EA1-A79C-9249A5F7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F742E-4E45-4EB5-9EC8-F34E34F8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E8F80-A951-4CCB-A6A2-D3653223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D6E7A-EEF7-4D68-89FB-5530A642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B27CC-E539-4A7E-96FB-6929580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530FD-C038-4837-A885-A35BD8AC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CB964-A6E0-4C71-88D9-B42B925F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3892-7305-4F3D-A278-75665508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8DCAF-738E-4CCD-8BC3-6FDBB519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5ACC-81C7-4BB8-AA6E-0A42D3E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06217-A437-4E01-9AD2-1F4B8042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856-5CEA-4225-98F2-FB607BFA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CE03-60D2-467A-8110-878FE4AD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D94A4-4A02-408A-954A-6B526F95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20832-1569-4650-994E-ED21E9F7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AB036-1612-47D5-BABE-8F6B0E16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BEAA2-72C8-4298-931C-97E555E2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FF462-2105-4245-8793-7F8DD923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C15E9-F807-47D7-B27B-514D9433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F0759-C0AD-48FF-8F35-325C9B1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7B1C5-41CA-4242-9E04-5019ABD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60D7D-8027-4751-85A9-0FE8F31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1A8-DA15-4502-856A-E9A92131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4DA9B-D4C4-4A8F-A802-162D8460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BCA33-C768-445C-91BC-9C8B2A30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912C0-F129-41C5-A27D-292723E0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F3878-F01B-4973-911C-7F8A95BA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9F502-6FD8-4F46-9E4A-68369432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36CCF-30D5-4FB8-AA25-4E564A78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BF3F8-5175-408E-B851-BC81BA5C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83C48-D961-432B-B022-F63A6374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15763-1AF1-437B-A239-81A6D52C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9731F-65D5-4D4A-AEAF-75EA12B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4CE-6C21-4FAF-BBC2-C8EAFA8F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638F9-AF39-4754-9B1F-36120366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8839-83E4-4FD0-B2CD-6921D024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A2729-D5FC-4BFC-9ACE-1EEDAB48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07052-0F84-4E08-B199-4D70D03C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58B77-AE0A-4474-AACD-5E173B99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4191C-09A9-46A7-9F9B-BDBEA6C3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AC237-C4AF-4B46-A94E-AC34B451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DBF9F-CC11-479F-858A-6AA8B85D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84C64-A014-41CD-BE43-8826F4C2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51945-2A1D-4D23-9BEC-7C700714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7BD-571F-456E-A422-F26E3027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98634-987F-494E-8340-BD4E2CB9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11A5D-5CC5-4F8F-8A2C-D393CBA4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D9D30-A8CC-4DC7-9E92-E5EEB19E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A7E65-3943-4866-B59E-CAE9A213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CE024-FDB0-41AF-9055-C59EA3B9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6EEE6-E64A-400A-9E20-739EB617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8F749-ACE6-44E5-8D74-B9DDF7C7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D1CC8-DC5E-4727-83E0-EBA176DB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C83BB-C20A-4133-A075-FE00B2F0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51233-A4D4-4530-8B84-06F5ECE3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4079-DE3F-4573-BE85-250AC0372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3731-BD53-42D1-ADC7-C67F4E3B78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167-EB29-4820-8C86-00883AAAC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639A-8B65-4B7A-8339-49197F8D71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738E-CB9E-45AD-BF35-D4057E7D2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54B7-71EE-4DBC-8438-4CE1BA9187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A72A-A5C4-47E9-B52F-60C7A51A1D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8D72-CA6B-4A0C-A5D7-C223E97405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55A0-D96E-4EAA-9432-8FF13BFBFD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B54B-4DBF-46A9-AE28-5E86BD2824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0759-1058-4527-AADD-F67F3DBDD6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13AE-54D8-4884-83CA-232EA088E3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4C93-5E56-42C6-B8EC-1033C7E39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5F15-7ADC-450A-A439-0EA42C54D0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6F43-1C14-4A55-8A68-0EB2B873B6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7047-9733-4DE5-B25E-9907DA256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321C-575D-4884-B6B3-129862BEA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F312-8344-4CBA-8354-FA3570A24D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B2B7-43A3-4754-891A-1FFF28041E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2D5B-2965-469F-9226-6C97B59432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86AE-5BDE-4C3F-9DB1-FBC2E83AD1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EF79-4319-442A-A205-609C5E4EC2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AEB1-8F48-4B50-84CD-EEF6E93186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1A38-EBBC-4102-BC3D-9D9FFFC7A1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FAA-8ABB-4427-9D7E-472A85124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9D18-C4DB-47C5-8BF2-FE97DEE05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C8D1-9E5E-4BA3-8735-8676FE844B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3554-779F-401F-B340-C3E8781C0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F401-EEEB-4019-90A1-BA385DAAC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D570-4FC3-4664-BF5D-EB51BD1E51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E27C-D32C-4162-8874-10034F203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146A-AD0F-4987-9274-CABA8B00E9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690B-4329-4FC4-A05C-DD212BDE5A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7D52-0F75-4021-926C-D9F28ADC98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9D16-A3C2-46EA-B81F-78501EA6BA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9B83-011B-4903-961F-F141121F60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36C1-2B3E-448B-819D-5F5A3A3930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102E-3B1E-45A2-995E-07ABE14B9C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C801-84D0-4FC1-B464-F02B2A58E7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2997-AA13-47B0-8978-3DDEB662F0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14200" y="3189240"/>
            <a:ext cx="871560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785960" y="785880"/>
            <a:ext cx="5286240" cy="6035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173320" y="1271520"/>
            <a:ext cx="473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977760" y="752400"/>
            <a:ext cx="7448760" cy="6072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3059280" y="5732640"/>
            <a:ext cx="1584000" cy="9363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3"/>
          <a:stretch/>
        </p:blipFill>
        <p:spPr>
          <a:xfrm>
            <a:off x="5724360" y="5805360"/>
            <a:ext cx="1079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1000080" y="725400"/>
            <a:ext cx="7510680" cy="60944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4"/>
          <a:stretch/>
        </p:blipFill>
        <p:spPr>
          <a:xfrm>
            <a:off x="2013120" y="5294160"/>
            <a:ext cx="4712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928800" y="765000"/>
            <a:ext cx="7686720" cy="60217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2050920" y="8366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2843280" y="380988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4"/>
          <a:stretch/>
        </p:blipFill>
        <p:spPr>
          <a:xfrm>
            <a:off x="4356000" y="4395960"/>
            <a:ext cx="194472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5"/>
          <a:stretch/>
        </p:blipFill>
        <p:spPr>
          <a:xfrm>
            <a:off x="3203640" y="573264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6"/>
          <a:stretch/>
        </p:blipFill>
        <p:spPr>
          <a:xfrm>
            <a:off x="5148360" y="6308640"/>
            <a:ext cx="79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733320" y="1419120"/>
            <a:ext cx="7677360" cy="4019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2"/>
          <a:stretch/>
        </p:blipFill>
        <p:spPr>
          <a:xfrm>
            <a:off x="2627280" y="2205000"/>
            <a:ext cx="7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3"/>
          <a:stretch/>
        </p:blipFill>
        <p:spPr>
          <a:xfrm>
            <a:off x="3708360" y="2801880"/>
            <a:ext cx="165564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4"/>
          <a:stretch/>
        </p:blipFill>
        <p:spPr>
          <a:xfrm>
            <a:off x="4572000" y="425124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5"/>
          <a:stretch/>
        </p:blipFill>
        <p:spPr>
          <a:xfrm>
            <a:off x="2627280" y="486252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6"/>
          <a:stretch/>
        </p:blipFill>
        <p:spPr>
          <a:xfrm>
            <a:off x="4078440" y="4859280"/>
            <a:ext cx="1152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433440" y="738360"/>
            <a:ext cx="8277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890640" y="1185840"/>
            <a:ext cx="7362720" cy="5172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4"/>
          <a:stretch/>
        </p:blipFill>
        <p:spPr>
          <a:xfrm>
            <a:off x="1403280" y="47242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5"/>
          <a:stretch/>
        </p:blipFill>
        <p:spPr>
          <a:xfrm>
            <a:off x="1403280" y="58770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6:11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